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BD1-B085-4B17-BD53-56EB9D1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6D9-052C-4A3C-9FBC-DE1BFC0A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3780E-64D1-4E86-B8DB-1C822FD6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7A42B-33E8-4FF1-9F9F-9B443B6B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04A0-9761-4A68-8F12-03A40B83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79E4-1BF1-4C33-A89A-94A2281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94A50-B55D-4D1A-B321-2C159F4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898B3-87FF-4C3C-B9D3-20A386C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E1B3-41D4-45A0-8132-2525F4A5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494C3-AC30-4BF5-9122-C3FAFC22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AFE9F-9485-4B62-8703-0B6F7521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989AF-42EF-400A-8902-0D2F055D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2A2-CE90-4242-A15F-135797EB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F5C21-DDBC-470C-A48D-E6AC45A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5D22-E77E-4E11-8159-21B9928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0381-E11A-4FFD-B09F-62FA3D8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866C0-7B57-4C0D-BD68-922CF39B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3FDC-7D05-4D46-9890-8096378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76247-E163-4096-A045-393A1BF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2987-D26D-4B12-8EDD-E75BD0F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3204-6BF3-4718-AA2B-DF65AE6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52D6-3BE3-4F5A-BBE2-EC1FEC47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16B4-2728-4D6B-BA30-FFCA2D09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5CA-F45B-4AC4-B99A-1F1124C7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D27F-DF37-4161-932B-C556E9BB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17E5-AA3E-4BE3-8305-55DDDEA5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225B-60BD-4EB1-B4A5-5C0A87C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61FF-7AC0-40B0-BD80-6D0D332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276-F779-44A9-B235-65CE49B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1A0E-1B74-4BCA-B99B-3AA85290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B4D-E30C-42BA-8520-AB96876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893-DBE2-4606-9117-32559ACB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67F-9582-4DB6-95F8-3D95CAF2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B5A-6812-471D-AD1E-B3CFC649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4D7E-9624-40AA-88EA-028704B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7F64-6DA2-4B01-BA6B-32EA5A9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EDF0-72AC-428B-9FFA-77015125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013B-18A2-4352-B57B-C2927577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E35D-250D-4B8E-A1B3-1C6B3528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5012-9BDA-4017-9FF6-F43D0B2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2F87-31F8-4B32-9BE7-37A493B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DD44-4E87-4408-BFFB-A69A0A8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B222-5B98-4A8B-8D8F-37B08B5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628-05E9-465E-A7C0-BA5A9FC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3FD6-64B3-4F31-A8FD-1BA3F8E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C2C1-528E-4823-A7D4-B4B9C05E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06F6-207B-4674-BA73-80C3C06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DE7F-8328-4B10-8AE5-E94E5B0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E2CE-1F80-4891-B45F-64E26E0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00AE-21F8-43D1-8A0A-735320C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F866-3C6D-4543-9620-23A82E5B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4A81-FC46-46ED-B5F0-9081462A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F615-F3C5-4BF7-9FC8-1998EC1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6354-0907-4D5F-AEAB-72D23D0A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E84-2590-4AB2-AAB2-22C3C08B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ABD6-1762-4998-9977-B19CAC0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A3EB3-27ED-435D-A12A-F915F2B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DBC3-4C8E-4880-B164-8B4D52A9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1E63-9C3F-4467-BD50-2A90F7B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0C99-12A6-4709-8646-176CE82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F004-E662-4D5F-9DCA-D2BA3B8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41C8-F1CA-4C08-833F-BA4DEE1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5097-FBA4-49B0-B21F-09D8D46F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E5A6-8F09-4BFC-AFB0-D928D814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EA88-3777-410D-90F9-84207F77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5E1-A2E2-47D1-A0D0-B72F555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B7188-D2A2-4194-9BE9-F59A9965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CC41-2112-4B17-B9E1-25D0739F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8875-BBD3-45F9-BF18-AC53AF5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CBA6-1150-4E6B-A11F-A3EDC249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84BA-3A34-4F1D-894F-3569AED7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919B-4242-4AC7-9A71-BA7BC590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E81E-1EC7-4090-A25C-27457B7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4AC3B-8D8E-4B05-8538-73F81647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D5C1-4594-4BCA-B55C-B5EE2E3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8851-F0A7-4C99-B51E-9FCDD3AA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347-C667-425D-A4D6-EE91B02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3677-1336-4F59-97BB-8314CD50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5E585-EB9B-497B-88FF-85CC3F50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697B-42C7-44A1-A6F1-68762683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3832-B9CB-4D89-B158-B0B56F8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F54D-7933-4D67-894F-41B3A33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DCCC-2992-4002-A2CD-7D1899A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9762F-B329-42F6-9275-F5C4756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664E1-2ED4-445E-BC32-56E07E4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ADFB4-2CEB-4583-AA17-AC617FA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058B-58F3-408E-BABF-4B5D1EA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D55-BDCA-4380-B10A-9BCEB3F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136A1-A652-40F0-8C30-E10590A3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EB1E-EB85-4E35-822F-948F44D9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19551-A4BF-4AAE-BADE-C87E041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9D137-06C4-43C5-AC08-0629777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2CC2-E616-4AEA-9F44-90A27B5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DA1E8-C09D-4B57-9E9E-1799A1E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5B93-1B74-4FEB-83FB-4D47D75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1F66-5A3E-4995-948C-E66937E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0B82-C76C-43B9-98EA-545DFB8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87DA-5287-4BE2-805C-452D5B1C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CDE-C4DA-4072-84DE-7AFA23E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FD70-46F8-41C4-A012-E75DDBC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7A7B-DCB8-48FF-9CE6-76CFBA0D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60D9B-4223-4433-A38A-976CC84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87CB-500C-4603-BEE2-44377249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9D8B-DCEE-4059-8D45-0AC8FD30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D3FA-4ECF-4C19-BB91-BB16DA02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480F9-D262-4C16-82BB-30916ED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F9F2-830C-446B-A139-172875D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1642-6714-4F69-938C-12A9741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1C9C5-66E3-4CA1-B9F5-946ECB8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289-A14A-4C90-8798-6189E99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23E89-914C-4BF3-B03E-9F013BC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C242-81A5-49A5-8B63-D3DF398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8E351-1707-4CD3-ABB4-1B51A42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17F98-71A3-4DA1-8795-B49371A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DBA9-C1B3-4CD4-8F75-8E5A78A1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59D4C-B2DF-439A-8D83-0F995335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98BB-5D13-4F26-8431-32A9A15C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BF9D6-B528-40BF-925D-16B0D9E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F3DEF-3CA8-4CE5-A012-8A1D368D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1786C-F14F-4D3F-8F10-33327C10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60A9-1E08-4725-9E5F-CB123407325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64D3-9E7D-4CCC-903F-827F59E04B6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0D01-C8ED-46A7-AA97-EED8C2C85E12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2057400"/>
            <a:ext cx="9067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9B76E-DED2-4A84-97AF-DC589CBEF33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72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600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42F53-5361-4CAB-9062-84B9ABC432BC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F0131-EF3F-4300-957F-E135ADA3608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7530-4549-4978-96E2-2524995AF28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5ACEC-20B1-4EC2-AFEE-233FEDF66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E2BA-93B9-408C-B0C2-018534267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7A98C-3947-4DEF-9119-BE2F1AD04BD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 Rounded MT Bold"/>
              </a:rPr>
              <a:t>Modelado eólic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Agente modelad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11280" y="144000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33560" y="2163600"/>
            <a:ext cx="135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ien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92360" y="1440000"/>
            <a:ext cx="3363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ículas de polvo 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otros materiales lig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2359080"/>
            <a:ext cx="27874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oca vege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4560">
              <a:lnSpc>
                <a:spcPct val="97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Escasa hum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03640" y="1511280"/>
            <a:ext cx="287280" cy="19065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9680 h 1906560"/>
              <a:gd name="textAreaBottom" fmla="*/ 1856880 h 190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19640" y="180036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53160" y="1582560"/>
            <a:ext cx="400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f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84360" y="287964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3160" y="3672000"/>
            <a:ext cx="577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gasta y pule la superficie de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91280" y="388764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96240" y="3672000"/>
            <a:ext cx="2290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brasión eó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64360" y="410364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4822920"/>
            <a:ext cx="1338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7920" y="5634000"/>
            <a:ext cx="382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lieve típicos: Montes i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6400" y="6175440"/>
            <a:ext cx="3783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lieves de rocas que h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sistido la ero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11280" y="410364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2040" y="4735440"/>
            <a:ext cx="48643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icipa en la erosión, transpo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y sedi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186520" y="2413080"/>
            <a:ext cx="4533840" cy="2987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44720" y="2163600"/>
            <a:ext cx="387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3333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92000" y="4284720"/>
            <a:ext cx="4083120" cy="291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36520" y="2016000"/>
            <a:ext cx="33624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Formas de ero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27280" y="720720"/>
            <a:ext cx="216000" cy="30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72080" y="863640"/>
            <a:ext cx="1557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lvéo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00720" y="107964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9080" y="863640"/>
            <a:ext cx="3413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equeñas oqu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roducidas en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57680" y="2087640"/>
            <a:ext cx="293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ocas fungifor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327640" y="2478240"/>
            <a:ext cx="4370400" cy="32097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232240" y="2735280"/>
            <a:ext cx="3911760" cy="3095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754440" y="3168720"/>
            <a:ext cx="317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vimento desér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7520" y="3887640"/>
            <a:ext cx="4992840" cy="3138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43000" y="530280"/>
            <a:ext cx="5141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Formas de transporte e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280" y="2232000"/>
            <a:ext cx="126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44720" y="180036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44720" y="1440000"/>
            <a:ext cx="1265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suspens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232000" y="3959280"/>
            <a:ext cx="5111640" cy="3240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527280" y="1584360"/>
            <a:ext cx="23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fi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16000" y="2232000"/>
            <a:ext cx="126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sal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13040" y="259236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27280" y="2374920"/>
            <a:ext cx="329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intermed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44720" y="331164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6200" y="2951280"/>
            <a:ext cx="21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reptación o rodad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5440" y="3166920"/>
            <a:ext cx="277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grue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68360" y="1224000"/>
            <a:ext cx="287280" cy="244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893880" y="1874880"/>
            <a:ext cx="191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Desiertos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18960000">
            <a:off x="2198520" y="880920"/>
            <a:ext cx="1038240" cy="1076400"/>
          </a:xfrm>
          <a:custGeom>
            <a:avLst/>
            <a:gdLst/>
            <a:ahLst/>
            <a:rect l="l" t="t" r="r" b="b"/>
            <a:pathLst>
              <a:path w="142" h="147">
                <a:moveTo>
                  <a:pt x="98" y="21"/>
                </a:moveTo>
                <a:cubicBezTo>
                  <a:pt x="64" y="21"/>
                  <a:pt x="36" y="50"/>
                  <a:pt x="36" y="84"/>
                </a:cubicBezTo>
                <a:cubicBezTo>
                  <a:pt x="36" y="102"/>
                  <a:pt x="22" y="116"/>
                  <a:pt x="4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47"/>
                  <a:pt x="0" y="147"/>
                  <a:pt x="0" y="147"/>
                </a:cubicBezTo>
                <a:cubicBezTo>
                  <a:pt x="4" y="147"/>
                  <a:pt x="4" y="147"/>
                  <a:pt x="4" y="147"/>
                </a:cubicBezTo>
                <a:cubicBezTo>
                  <a:pt x="39" y="147"/>
                  <a:pt x="67" y="119"/>
                  <a:pt x="67" y="84"/>
                </a:cubicBezTo>
                <a:cubicBezTo>
                  <a:pt x="67" y="67"/>
                  <a:pt x="81" y="53"/>
                  <a:pt x="98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73"/>
                  <a:pt x="103" y="73"/>
                  <a:pt x="103" y="73"/>
                </a:cubicBezTo>
                <a:cubicBezTo>
                  <a:pt x="142" y="37"/>
                  <a:pt x="142" y="37"/>
                  <a:pt x="142" y="37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21"/>
                  <a:pt x="103" y="21"/>
                  <a:pt x="103" y="21"/>
                </a:cubicBezTo>
                <a:lnTo>
                  <a:pt x="98" y="21"/>
                </a:lnTo>
                <a:close/>
              </a:path>
            </a:pathLst>
          </a:cu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632040" y="919080"/>
            <a:ext cx="4848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ariaciones de temperatura en 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aderas entre el día y la no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88000" y="1800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51280" y="2376360"/>
            <a:ext cx="39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fragmentación de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00360" y="2879640"/>
            <a:ext cx="144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64000" y="3527280"/>
            <a:ext cx="287280" cy="309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8200" y="4392720"/>
            <a:ext cx="26830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Según su mater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sedi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57680" y="3562200"/>
            <a:ext cx="380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iedras y cantos grue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381636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12160" y="3527280"/>
            <a:ext cx="28238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g”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ierto pedreg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79640" y="4303800"/>
            <a:ext cx="144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64000" y="4535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4120" y="4319640"/>
            <a:ext cx="3520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Erg” o desierto aren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96000" y="47512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91280" y="5111640"/>
            <a:ext cx="1265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u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92520" y="5616720"/>
            <a:ext cx="3543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ículas finas de l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8720" y="583236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5760" y="5589720"/>
            <a:ext cx="2678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oess” o des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rcilloso y lim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111640" y="647640"/>
            <a:ext cx="4668840" cy="4319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22400" y="576360"/>
            <a:ext cx="4773600" cy="424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638600" y="532764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1270080" y="287280"/>
            <a:ext cx="7619760" cy="471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608360" y="504360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1584360" y="41580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494240" y="597528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Lo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1440000" y="503280"/>
            <a:ext cx="70707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20720" y="720720"/>
            <a:ext cx="127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Du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704880" y="1403280"/>
            <a:ext cx="6062760" cy="3780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199280" y="503280"/>
            <a:ext cx="2735280" cy="2376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266760" y="12240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dur="indefinite" fill="hold">
                      <p:stCondLst>
                        <p:cond delay="indefinite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25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6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dur="indefinite" fill="hold">
                      <p:stCondLst>
                        <p:cond delay="indefinite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2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03280" y="647640"/>
            <a:ext cx="278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Tipos de du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31640" y="3672000"/>
            <a:ext cx="4562640" cy="3139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628640" y="1459080"/>
            <a:ext cx="1611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Barja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184720" y="3708360"/>
            <a:ext cx="4319640" cy="30607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600200" y="2160720"/>
            <a:ext cx="3006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ipples o riza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1440000"/>
            <a:ext cx="287280" cy="194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55640" y="2867040"/>
            <a:ext cx="5759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unetas: dunas más pequeñ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16:13:53Z</dcterms:created>
  <dc:creator>Jiaying y Jiahe xu</dc:creator>
  <dc:description/>
  <dc:language>en-US</dc:language>
  <cp:lastModifiedBy>Jiaying y Jiahe xu</cp:lastModifiedBy>
  <dcterms:modified xsi:type="dcterms:W3CDTF">2016-12-16T16:28:30Z</dcterms:modified>
  <cp:revision>2</cp:revision>
  <dc:subject/>
  <dc:title/>
</cp:coreProperties>
</file>